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32B-8055-408E-A8AD-FCD92BAA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49B-2C3C-4905-92FC-359751F2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C22-E83F-48AC-A74E-FE27F3FD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309-E7D4-422C-BDC0-51579CAD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E43B-3776-448E-AA37-87428807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23B-D3A4-46FA-995D-A68482F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846B-9DA2-42F6-B2CC-A4489A17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071-B106-4641-9F3E-67D4DAAA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C7F8-29D4-4CC9-81D8-42A9F08B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4C34-A53F-4CE8-A077-26FE4D9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8EFD-0659-4E74-A17E-CC215B5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5BC-C2EC-4DAE-9714-110988A6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5FF0-ED63-4F70-B47A-12ABD29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D5F6-E2A0-485E-84FC-6FCDF02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344F-AEB0-43C2-ABA2-F370A312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87F-F8B2-4B96-84E5-91D66924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FB15-5B7C-4F56-B543-78ABF99E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28D-1FA9-46DF-9759-55F8724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DF8-4DD7-414E-8EBB-05CE5C71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773-29B2-41A5-89A2-56A4BE83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046-EF85-4CA8-A599-E3ED0A6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D9E-4FEA-4288-A128-9C4AD89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DB3-DEB5-45A2-A6CA-40C00693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5E9-D679-4095-8D4F-5FC8D34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BC66-A132-46EE-AC1A-48C14049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3D9-8D02-42BB-84D9-C4631020EBB5}" type="slidenum"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Branches Of The    Governmen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r. Quarles 3-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The Three Branches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xecuti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gislati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udic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r?t=a&amp;d=us&amp;s=k&amp;c=akdi&amp;ti=1&amp;ai=30752&amp;l=dir&amp;o=0&amp;sv=0a5c4242&amp;ip=a8b8dc04&amp;u=http%3A%2F%2Fwww"/>
          <p:cNvPicPr/>
          <p:nvPr/>
        </p:nvPicPr>
        <p:blipFill>
          <a:blip r:embed="rId1"/>
          <a:stretch/>
        </p:blipFill>
        <p:spPr>
          <a:xfrm>
            <a:off x="4952880" y="2362320"/>
            <a:ext cx="3571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Executive Branch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of the President and Vice Presid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executive.jpg"/>
          <p:cNvPicPr/>
          <p:nvPr/>
        </p:nvPicPr>
        <p:blipFill>
          <a:blip r:embed="rId1"/>
          <a:stretch/>
        </p:blipFill>
        <p:spPr>
          <a:xfrm>
            <a:off x="5105520" y="2666880"/>
            <a:ext cx="3835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Legislative Branch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gress and the House of Represent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sses and makes the law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3200400" y="4114800"/>
            <a:ext cx="30481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Judicial Branch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rprets the law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udges (make decision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preme Cou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gavel.bmp"/>
          <p:cNvPicPr/>
          <p:nvPr/>
        </p:nvPicPr>
        <p:blipFill>
          <a:blip r:embed="rId1"/>
          <a:stretch/>
        </p:blipFill>
        <p:spPr>
          <a:xfrm>
            <a:off x="5410080" y="3733920"/>
            <a:ext cx="32432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Democracy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get to vo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ain freedoms, like religious freedom, freedom of speech, right to a fair t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eagle.bmp"/>
          <p:cNvPicPr/>
          <p:nvPr/>
        </p:nvPicPr>
        <p:blipFill>
          <a:blip r:embed="rId1"/>
          <a:srcRect l="19034" t="0" r="0" b="8618"/>
          <a:stretch/>
        </p:blipFill>
        <p:spPr>
          <a:xfrm>
            <a:off x="3505320" y="3733920"/>
            <a:ext cx="3429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Types of Democracy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ve (Republ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lag.bmp"/>
          <p:cNvPicPr/>
          <p:nvPr/>
        </p:nvPicPr>
        <p:blipFill>
          <a:blip r:embed="rId1"/>
          <a:stretch/>
        </p:blipFill>
        <p:spPr>
          <a:xfrm>
            <a:off x="1295280" y="3809880"/>
            <a:ext cx="3000600" cy="252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612px-United_States_one_dollar_coin,_reverse.bmp"/>
          <p:cNvPicPr/>
          <p:nvPr/>
        </p:nvPicPr>
        <p:blipFill>
          <a:blip r:embed="rId2"/>
          <a:stretch/>
        </p:blipFill>
        <p:spPr>
          <a:xfrm>
            <a:off x="5181480" y="3429000"/>
            <a:ext cx="3067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54:11Z</dcterms:created>
  <dc:creator>60970</dc:creator>
  <dc:description/>
  <dc:language>en-US</dc:language>
  <cp:lastModifiedBy>Phil Marty</cp:lastModifiedBy>
  <dcterms:modified xsi:type="dcterms:W3CDTF">2009-10-15T16:14:58Z</dcterms:modified>
  <cp:revision>10</cp:revision>
  <dc:subject/>
  <dc:title>The Three Branches Of The    Government</dc:title>
</cp:coreProperties>
</file>